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7760" y="413064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080" y="1981080"/>
            <a:ext cx="250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080" y="4130640"/>
            <a:ext cx="250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E4B0A-1EE1-41F4-88DB-CE37FBB148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3D4AA-9233-45F0-A89D-35BB4F6B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E3B97-483C-4985-B9ED-C040F52E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3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3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F8F0A-62F3-4215-8146-2C0EA259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61E6A-6F4F-47A9-B2C8-F2144648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6DEA8-E383-4F12-BD28-FB68CD8F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3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BBF4C-50BC-4B9D-A815-232498EA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3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760" y="413064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F50F8-181B-4FEE-AA44-9FB0A7F9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6AE1D-A141-44B0-A948-F7169F87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FB6CF-745F-4873-B3A8-95E5FB1E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760" y="413064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AECC7-13DA-4EF7-B493-4DD29284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080" y="1981080"/>
            <a:ext cx="250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080" y="4130640"/>
            <a:ext cx="250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5841E-1200-4DF9-879F-9213CF0B3A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65A5-7005-4819-A954-C5B28512A1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EF3A-8724-4CDC-89F6-DBE4D745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753F-9BBF-4055-A6EA-9B321B97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3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3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ED5B-78AD-45D7-8882-0626159B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1139-9EE4-4712-BA52-6209A873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A139-D016-4FD9-BF15-C3226D6A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3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5A94-2128-4600-85CB-84F1D94E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3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7760" y="413064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5A3F-6574-4DBB-8525-F0784A3E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277B-2032-4F16-87E7-1F7427B6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5DBD-7CC2-4951-BBF1-D6060FA7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7760" y="413064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3FF5-CA9E-49CC-9D07-07D00587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080" y="1981080"/>
            <a:ext cx="250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080" y="4130640"/>
            <a:ext cx="250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1522-F41C-4ED7-9AE3-6D5AF689F1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56D5F7-B227-4A74-AF48-EDB8CC5BD2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B11A4A-F894-4F91-94E0-17C49FAA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6C128-12B5-4C15-8C85-302EB91C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3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3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3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3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77AD7A-E81B-41A7-924C-2B63DBFF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9B19F3-9559-4CE4-A3B0-06332FFB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E3C46D-A8E4-4DC7-8FF5-F6AAA958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3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568AC7-AF81-4367-8403-4CC92130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3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7760" y="413064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CE2D9E-55C1-4EA0-8179-4334B5EF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3666E-0131-4CE2-8F29-C119C03C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B3980-784D-40A9-BCB8-44515F63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7760" y="413064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211EAB-95AB-458C-89DA-788C4322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080" y="1981080"/>
            <a:ext cx="250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080" y="4130640"/>
            <a:ext cx="250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3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5A1393-7A07-4534-AAB2-5818CD5A16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3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3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7760" y="413064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3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040360"/>
            <a:ext cx="2895840" cy="16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704000" y="6275520"/>
            <a:ext cx="69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e4b02"/>
                </a:solidFill>
                <a:latin typeface="Baskerville Old Face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7210800" y="5699160"/>
            <a:ext cx="191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4b02"/>
                </a:solidFill>
                <a:latin typeface="Baskerville Old Face"/>
              </a:rPr>
              <a:t>THYR</a:t>
            </a:r>
            <a:r>
              <a:rPr b="0" lang="en-US" sz="4000" spc="-1" strike="noStrike">
                <a:solidFill>
                  <a:srgbClr val="ee4b02"/>
                </a:solidFill>
                <a:latin typeface="Baskerville Old Face"/>
              </a:rPr>
              <a:t>O</a:t>
            </a:r>
            <a:r>
              <a:rPr b="1" lang="en-US" sz="2800" spc="-1" strike="noStrike">
                <a:solidFill>
                  <a:srgbClr val="ee4b02"/>
                </a:solidFill>
                <a:latin typeface="Baskerville Old Face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7110000" y="5638680"/>
            <a:ext cx="102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e4b02"/>
                </a:solidFill>
                <a:latin typeface="Baskerville Old Face"/>
              </a:rPr>
              <a:t>Flor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7403400" y="6143760"/>
            <a:ext cx="170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4b02"/>
                </a:solidFill>
                <a:latin typeface="Baskerville Old Face"/>
              </a:rPr>
              <a:t>ENDOCR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7899480" y="6269040"/>
            <a:ext cx="12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e4b02"/>
                </a:solidFill>
                <a:latin typeface="Baskerville Old Face"/>
              </a:rPr>
              <a:t>li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6958080" y="5937120"/>
            <a:ext cx="633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e4b02"/>
                </a:solidFill>
                <a:latin typeface="Book Antiqua"/>
              </a:rPr>
              <a:t>&amp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2"/>
          <p:cNvSpPr/>
          <p:nvPr/>
        </p:nvSpPr>
        <p:spPr>
          <a:xfrm rot="20957400">
            <a:off x="8375400" y="5930640"/>
            <a:ext cx="129960" cy="244440"/>
          </a:xfrm>
          <a:prstGeom prst="ellipse">
            <a:avLst/>
          </a:prstGeom>
          <a:solidFill>
            <a:srgbClr val="fec1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Oval 13"/>
          <p:cNvSpPr/>
          <p:nvPr/>
        </p:nvSpPr>
        <p:spPr>
          <a:xfrm flipH="1" rot="642600">
            <a:off x="8475480" y="5949720"/>
            <a:ext cx="101520" cy="213840"/>
          </a:xfrm>
          <a:prstGeom prst="ellipse">
            <a:avLst/>
          </a:prstGeom>
          <a:solidFill>
            <a:srgbClr val="fec1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75000"/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SzPct val="75000"/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SzPct val="65000"/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SzPct val="65000"/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0033"/>
              </a:buClr>
              <a:buSzPct val="65000"/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SzPct val="65000"/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SzPct val="65000"/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6840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2162-4D84-4FA6-907A-36D75553F70B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E7BB-01CA-437B-B658-70569D030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75000"/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SzPct val="75000"/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SzPct val="65000"/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SzPct val="65000"/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0033"/>
              </a:buClr>
              <a:buSzPct val="65000"/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SzPct val="65000"/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SzPct val="65000"/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211040" y="6232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8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60A2-B242-484D-8E7E-4C00727A1DBB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229600" cy="51055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American College of Endocrinology</a:t>
            </a: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Report on Endocrine Certification in Neck Ultrasound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(ECNU)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839600" y="5409720"/>
            <a:ext cx="6399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H. Jack Baskin, MD, MACE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152280" y="342720"/>
            <a:ext cx="944856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VP content – malignant lymph node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Location of primary cancer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Location of lymph node (compartment I thru VI)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Measurement of short and long axis with </a:t>
            </a:r>
            <a:r>
              <a:rPr b="0" i="1" lang="en-US" sz="2400" spc="-1" strike="noStrike">
                <a:solidFill>
                  <a:srgbClr val="ffff66"/>
                </a:solidFill>
                <a:latin typeface="Tahoma"/>
              </a:rPr>
              <a:t>Short/Long Axis Ratio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(Transverse view)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Echogenicity of lymph nod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Description of vascularity with Doppler imag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resence or absence of hilar line, calcifications and cystic necrosis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342720"/>
            <a:ext cx="624852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ertification Results</a:t>
            </a:r>
            <a:br>
              <a:rPr sz="4400"/>
            </a:b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3 years – 5 exams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000" y="198108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330 Candidates took certifying examination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276 successfully passed exam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54  failed exam (20% fail rate)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136 have completed the VCP and are eligible to apply for AIUM practice accreditation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90920" y="342720"/>
            <a:ext cx="396216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Recertification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2437920"/>
            <a:ext cx="77738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Due 10 years after receiving ECNU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50 hours CME over 10 years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100 studies year before recertification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On line test of ultrasound images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Endocrine Certification in Neck Ultrasound (ECNU)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384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wo components: 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75000"/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Comprehensive Certification Exam (CCE)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75000"/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Validation Process (VP) - Validation of competency in the performance </a:t>
            </a:r>
            <a:r>
              <a:rPr b="0" lang="en-US" sz="2800" spc="-1" strike="noStrike" u="sng">
                <a:solidFill>
                  <a:srgbClr val="ffff66"/>
                </a:solidFill>
                <a:uFillTx/>
                <a:latin typeface="Tahoma"/>
              </a:rPr>
              <a:t>and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 interpretation of diagnostic US and UG FNA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CE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Computer-based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100 Multiple choice questions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Administered by Prometric</a:t>
            </a:r>
            <a:r>
              <a:rPr b="0" lang="en-US" sz="3200" spc="-1" strike="noStrike" baseline="30000">
                <a:solidFill>
                  <a:srgbClr val="ffff66"/>
                </a:solidFill>
                <a:latin typeface="Tahoma"/>
              </a:rPr>
              <a:t>TM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3 week window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wice a year 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096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CE Content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1. Principles of ultrasound imaging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2. Neck anatomy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3. Thyroid pathology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4. Parathyroid pathology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5. Lymph node pathology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6. Ultrasound-guided FNA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33720" y="342720"/>
            <a:ext cx="50292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Validation Process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38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Within 12 Months after passing CCE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Perform 100 (125) US studies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70% Ultrasound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30% UG FNA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Submit 15 examinations 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ahoma"/>
              </a:rPr>
              <a:t>and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reports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43200" y="342720"/>
            <a:ext cx="3200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VP content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77738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5 Cases nodular goiter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1 Case thyroiditis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2 Cases parathyroid pathology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2 Cases lymph node pathology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5 UG FNA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342720"/>
            <a:ext cx="586728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VP content –all reports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Indication for performing procedure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Measure thyroid and nodules in longitudinal x anterior-posterior x transverse plan (isthmus A-P)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Diagnostic impression or differential diagnosis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Disposition/plan</a:t>
            </a: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342720"/>
            <a:ext cx="586728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VP content - thyroid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Description of thyroid parenchyma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Description of significant nodules (echogenicity, margin, vascularity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Describe in detail any abnormality (cyst, calcification, comet tails, etc)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Description of neck lymph nodes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34272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VP content – parathyroid adenoma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Measurement of parathyroid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Location of adenoma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Echogenicity of parathyroid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Description of vascularity with Doppler image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Parathyroid must be verified by FNA (PTH in washout) or surgery</a:t>
            </a: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4:57:51Z</dcterms:created>
  <dc:creator>TEC</dc:creator>
  <dc:description/>
  <dc:language>en-US</dc:language>
  <cp:lastModifiedBy>kb</cp:lastModifiedBy>
  <dcterms:modified xsi:type="dcterms:W3CDTF">2010-10-12T13:29:10Z</dcterms:modified>
  <cp:revision>8</cp:revision>
  <dc:subject/>
  <dc:title>UPDATE ON ECNU</dc:title>
</cp:coreProperties>
</file>